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33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33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5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  <a:effectLst>
            <a:outerShdw dist="53966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2133720"/>
            <a:ext cx="3343320" cy="1220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58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От проклятия к благословения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2514240"/>
            <a:ext cx="815364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Семинар “Встреча с Богом”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Седьмая сесси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4497480"/>
            <a:ext cx="7467840" cy="2287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Copyright © 2000 TOUCH Outreach Ministrie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Лидеры церквей, использующие материалы семинара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“Встреча с Богом”, подготовленные служением TOUCH могут использовать эту PowerPoint-презентацию в рамках своей поместной церкви.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Однако, никакая ее часть не может быть распространена за пределами вашей поместной церкви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33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Послужить другим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26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33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5000"/>
              </a:lnSpc>
              <a:spcBef>
                <a:spcPts val="400"/>
              </a:spcBef>
              <a:buClr>
                <a:srgbClr val="ffff00"/>
              </a:buClr>
              <a:buSzPct val="12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просите их простить и/или исповедать грех и отречься от всякого проклятия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5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Разбейте всякую зависимость от людей, организаций и переживаний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5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Изгоните всякое духовное угнетение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5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Разрушьте неправильные слова или представления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5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Monotype Sort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Молитесь об исцелении и послужите человеку словами из Писания, которые Господь положит вам на сердце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4419720"/>
            <a:ext cx="74678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Copyright © 2000 TOUCH Outreach Ministrie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Лидеры церквей, использующие материалы семинара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“Встреча с Богом”, подготовленные служением TOUCH могут использовать эту PowerPoint-презентацию в рамках своей поместной церкви.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Однако, никакая ее часть не может быть распространена за пределами вашей поместной церкви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33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Сила благословени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33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Наши сердца жаждут благословения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История об Исааке, Иакове и Исаве в 27-ой главе Бытия открывает нам силу благословения и трагедию его потери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33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Сила благословени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26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33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Мы все стремимся к любви, поддержке и безусловному приятию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Если мы не получаем этого, то в наших жизнях образуется пустота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Благословение и проклятие во власти языка. (Притчи 18:21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Сегодня Бог предлагает нам Свои благословения через Христа. (Галатам 3:14)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33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Благословение, дающее жизнь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00040" y="1981080"/>
            <a:ext cx="5791320" cy="426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33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Особое прикосновение (возложение рук и т. п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Сказанное слово (слова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Провозглашение ценности благословляемого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человек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Обрисованная картина будущего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Активное посвящение исполнению благословени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28600" y="2406600"/>
          <a:ext cx="2666880" cy="24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06600"/>
                    <a:ext cx="266688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33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Что такое проклятие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33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Осуждающие или унижающие слова, сказанные о человеке другими людьми или им самим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Удержанная любовь, прикосновение или посвящение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Духовное порабощение, явившееся результатом греха. (Исход 20:5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Провозглашенное порабощение и последствия клятв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33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От проклятия к благословению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33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Библия призывает нас обратить вспять поток проклятий, благословляя проклинающих нас.</a:t>
            </a:r>
            <a:br>
              <a:rPr sz="3200"/>
            </a:b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(Лук. 6:27-28; Рим. 12:14,21; 1 Пет. 3:9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На кресте Иисус взял на Себя всякое проклятие, которое мы сами или кто-то другой положил на нас.</a:t>
            </a:r>
            <a:br>
              <a:rPr sz="3200"/>
            </a:b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(Гал. 3:13-14; Ис. 53:3-6; 2 Кор. 5:21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33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Чтобы обрести свободу, вам необходимо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33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SzPct val="120000"/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Закончить раздел “От проклятия к благословению” в вашем </a:t>
            </a:r>
            <a:r>
              <a:rPr b="1" i="1" lang="ru-RU" sz="3200" spc="-1" strike="noStrike">
                <a:solidFill>
                  <a:srgbClr val="ccecff"/>
                </a:solidFill>
                <a:latin typeface="Arial"/>
              </a:rPr>
              <a:t>Журнале духовного освобождения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 и обсудить его со вашим партнером-служителем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120000"/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Исповедать всякий свой грех или грехи предков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(Люди в Библии часто исповедывали грехи своих предков. См. Иеремия 14:20, Даниил 9:8, Неемия 1:6)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33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Чтобы обрести свободу, вам необходимо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33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120000"/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Простить всех людей, которые причинили вам боль, проклинали вас или подводили вас в тех сферах, за которые вы молитесь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120000"/>
              <a:buFont typeface="Monotype Sort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Отрекитесь от всякого проклятья, которое было высвобождено против вас. Вы можете помолиться молитвой, приведенной ниже, или молитвой, похожей на эту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Молитва освобождения от проклятий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240" y="2285640"/>
            <a:ext cx="8534520" cy="1981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Небесный Отец, я верю что на кресте Иисус взял на Себя все проклятия, которые могли быть высказаны против меня и моей семьи. Поэтому я прошу Тебя освободить меня от всякого проклятья в моей жизни. Также я провозглашаю полную свободу от всех этих проклятий для моей семьи. Во имя Иисуса, прямо сейчас я отрекаюсь от</a:t>
            </a:r>
            <a:r>
              <a:rPr b="1" i="1" lang="en-US" sz="2800" spc="-1" strike="noStrike" u="sng">
                <a:solidFill>
                  <a:srgbClr val="ccecff"/>
                </a:solidFill>
                <a:uFillTx/>
                <a:latin typeface="Arial"/>
              </a:rPr>
              <a:t> _________</a:t>
            </a: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.</a:t>
            </a:r>
            <a:r>
              <a:rPr b="1" i="1" lang="en-US" sz="2800" spc="-1" strike="noStrike" u="sng">
                <a:solidFill>
                  <a:srgbClr val="ccecff"/>
                </a:solidFill>
                <a:uFillTx/>
                <a:latin typeface="Arial"/>
              </a:rPr>
              <a:t>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Верою я принимаю полное освобождение и благодарю Тебя за это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5T17:02:55Z</dcterms:created>
  <dc:creator>Jim Egli</dc:creator>
  <dc:description/>
  <dc:language>en-US</dc:language>
  <cp:lastModifiedBy>Andrey</cp:lastModifiedBy>
  <dcterms:modified xsi:type="dcterms:W3CDTF">2002-11-16T08:54:38Z</dcterms:modified>
  <cp:revision>14</cp:revision>
  <dc:subject/>
  <dc:title>From Cursed to Blessed</dc:title>
</cp:coreProperties>
</file>